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9E4-CCCB-421E-967C-1EF9C278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47D-4737-4138-90E6-7A8820BD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B87-2D56-4EB5-A84C-CB5FADE5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AAD-8CBE-4B13-9FB1-ECEDD4E9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46FB-AAC2-4987-9513-4338038A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5AD3-3CC5-4DC9-90D6-94B2BE3E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3D21-CA7D-4B70-9E32-155FA65F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F48C-C0D1-4823-A46D-1E78184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EF74-0AAC-4D75-830E-E4B4390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2D73-B85D-4B96-B737-01127AB2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C3D7-B4F9-4860-A6D6-2ABEA573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C8A-0201-4307-BBB1-7F5BA13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BF78-0F78-42B2-AD9F-7E8926A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4C1F-5F80-4757-8D17-EE39CA6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F2FA-4A4A-4C4E-BB81-8E5864AC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02C2-3629-4BEB-A3C3-43AD25A4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28F2-AF8B-4E03-94C6-D290CF76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817-105E-4816-B207-70231488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3E1-9615-4F31-8F6A-6A0D883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B45-9210-4C21-9128-ECC98D3C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0D8-8A3E-47B9-9E6E-77DD8D1E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A8B-EB3B-4F42-BCF9-04F8C11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8DE-044B-4CEF-88BC-A08B8C3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C7B-62B7-443E-9084-F0CC311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1C3E-9921-48C6-8F4D-7F0A0E7BB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3A4-B6EF-4BF3-B81C-40CDBD12E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Chapter 26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FRANKLIN D. ROOSEVELT AND THE NEW DEAL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6580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Hoover and Voluntarism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1800" y="1905120"/>
            <a:ext cx="7485120" cy="52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ver initially sought solution through voluntary action, private ch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ged Individualis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aided farmers with Farm Board to buy surpluses and bankers with loans through Reconstruction Finance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 Army &amp; General MacArth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Hoover, cont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ed Democratic efforts to give direct aid to the unempl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cked for his inability to stop economic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ived as  indifferent to human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p9prob"/>
          <p:cNvPicPr/>
          <p:nvPr/>
        </p:nvPicPr>
        <p:blipFill>
          <a:blip r:embed="rId2"/>
          <a:stretch/>
        </p:blipFill>
        <p:spPr>
          <a:xfrm>
            <a:off x="228600" y="533520"/>
            <a:ext cx="876312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36" name="Content Placeholder 3" descr="Hooverville_June10-1937_Lee399.jpg"/>
          <p:cNvPicPr/>
          <p:nvPr/>
        </p:nvPicPr>
        <p:blipFill>
          <a:blip r:embed="rId1"/>
          <a:srcRect l="-7429" t="0" r="-7429" b="0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38" name="Content Placeholder 3" descr="hooverville-2.jpg"/>
          <p:cNvPicPr/>
          <p:nvPr/>
        </p:nvPicPr>
        <p:blipFill>
          <a:blip r:embed="rId1"/>
          <a:srcRect l="0" t="-2720" r="0" b="-2720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40" name="Content Placeholder 3" descr="centralparkhooverv.jpg"/>
          <p:cNvPicPr/>
          <p:nvPr/>
        </p:nvPicPr>
        <p:blipFill>
          <a:blip r:embed="rId1"/>
          <a:srcRect l="-6558" t="0" r="-6558" b="0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Bank Failur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l pulled money from banks following c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s invested money into stocks and lo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9 – 600 banks 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 – 11,000 of nation’s 25,000 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rowd scene outside bank"/>
          <p:cNvPicPr/>
          <p:nvPr/>
        </p:nvPicPr>
        <p:blipFill>
          <a:blip r:embed="rId2"/>
          <a:stretch/>
        </p:blipFill>
        <p:spPr>
          <a:xfrm>
            <a:off x="990720" y="762120"/>
            <a:ext cx="7238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Bank Failures, 1929–1933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49" name="Picture 6" descr="DIVI550"/>
          <p:cNvPicPr/>
          <p:nvPr/>
        </p:nvPicPr>
        <p:blipFill>
          <a:blip r:embed="rId1"/>
          <a:stretch/>
        </p:blipFill>
        <p:spPr>
          <a:xfrm>
            <a:off x="1219320" y="1676520"/>
            <a:ext cx="678168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Emergence of Roosevel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klin Roosev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to wealth and privi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1: Crippled by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8: Elected governor of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ented and persuasive polit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2: Defeated Hoover with farmer- worker-immigrant-Catholic coa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Great Depression - Caus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s and war debt policies that cut down the foreign market for Amer.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in farm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ility of easy 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 distribution of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DIVI7233566"/>
          <p:cNvPicPr/>
          <p:nvPr/>
        </p:nvPicPr>
        <p:blipFill>
          <a:blip r:embed="rId1"/>
          <a:stretch/>
        </p:blipFill>
        <p:spPr>
          <a:xfrm>
            <a:off x="1986120" y="685800"/>
            <a:ext cx="52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DIVI7233TB2601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Hundred Day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inaugural inspired with the term “nothing to fear, but fear it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ing system saved from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een major laws provided r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nessee Valley Authority was the most ambitious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eal aimed to reform and restore, not nationalize, the econo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Tennessee Valley Authorit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61" name="Picture 4" descr="DIVI7233568"/>
          <p:cNvPicPr/>
          <p:nvPr/>
        </p:nvPicPr>
        <p:blipFill>
          <a:blip r:embed="rId1"/>
          <a:stretch/>
        </p:blipFill>
        <p:spPr>
          <a:xfrm>
            <a:off x="2057400" y="2133720"/>
            <a:ext cx="50292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oosevelt and Recover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Recovery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es formulated codes to eliminate cut-throat competition, ensure labor pe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s favored big business, unenforc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5: NRA ruled unconstitu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Adjustment Act of 19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ers paid to take land out of cul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s increased, mainly because of government payments, but Dust Bowl helped by cutting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croppers, tenant farmers disposs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oosevelt and Relief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: Harry Hopkins placed in charge of RFC to direct aid to unempl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: Civilian Conservation Corps provided employment to young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Works Progress Administration placed unemployed on federal pay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 never sufficiently fu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oosevelt and Reform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–1934: Focus on immediate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Shift to permanent economic reform, “broker stat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hallenges to FDR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Charles Coughlin advocated nationalizing banks, anti-Semit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is Townsend called for $200 per month pensions to all those over 60 if they spent it within the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ey Long and the Share the Wealth Clubs called for redistribution of wealth by seizing private fort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ocial Securit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Social Security Ac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few people would collect pen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mployment package in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pattern of government aid to poor, aged, handica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Labor Legislation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Wagner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unions to organi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awed unfair labor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: Fair Labor Standard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w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Electrification Administration brought electricity to 90% of farmers who did not have it in 19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Great Crash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 laid of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for consumer goods decl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Impact of the New Deal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broad influence on the quality of life in the U.S. in the 193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labor unions m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women, minorities l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ise of Organized Labor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2: National Recovery Act spurred union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of Industrial Organization (CIO) formed by John L. Lew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O unionized steel, auto indus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0: CIO membership hit 5 million, 28% of labor force uni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New Deal Record on Help to Minoriti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p reduction program allowed whites to fire or evict blacks, Hispan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works programs helped by providing 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eal figures convinced minorities that the government was on their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4: Indian Reorganization Act gave American Indians great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Women at Work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on of women deteriorated in ‘3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 lost at a faster rate than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ly any New Deal programs hel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in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s Perkins, Secretary of Labor, the first woman cabinet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appointed to several other p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anor Roosevelt a model for activ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End of the New Deal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: New Deal peaked with Roosevelt’s re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resisted programs after 19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Election of 1936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’s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ed the rich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d further refor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ated Republican Alf La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won lopsided majorities in both houses of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coalition:  South, cities, labor, ethnic groups, African Americans,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Election of 1936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211" name="Picture 4" descr="DIVI7233TB2602"/>
          <p:cNvPicPr/>
          <p:nvPr/>
        </p:nvPicPr>
        <p:blipFill>
          <a:blip r:embed="rId1"/>
          <a:srcRect l="0" t="16462" r="0" b="0"/>
          <a:stretch/>
        </p:blipFill>
        <p:spPr>
          <a:xfrm>
            <a:off x="380880" y="2514600"/>
            <a:ext cx="8458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Supreme Court Figh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reme Court blocked several of FDR’s first-term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: FDR sought right to "pack" Cou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ional protest forced 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’s opponents embold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DIVI7233TB2603a"/>
          <p:cNvPicPr/>
          <p:nvPr/>
        </p:nvPicPr>
        <p:blipFill>
          <a:blip r:embed="rId1"/>
          <a:stretch/>
        </p:blipFill>
        <p:spPr>
          <a:xfrm>
            <a:off x="1143000" y="685800"/>
            <a:ext cx="676584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DIVI7233TB2603b"/>
          <p:cNvPicPr/>
          <p:nvPr/>
        </p:nvPicPr>
        <p:blipFill>
          <a:blip r:embed="rId1"/>
          <a:stretch/>
        </p:blipFill>
        <p:spPr>
          <a:xfrm>
            <a:off x="1219320" y="696960"/>
            <a:ext cx="67053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Crash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ite dropping prices week before, experts said all was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. 29, 1929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ack Tuesd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hareholders frantically tried to sell before prices dropped even l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4 million shares dumped, 3 million ppl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id-Nov. investors lost $30 b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New Deal in Declin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: Cutbacks for relief agen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: Severe slump hit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sevelt blamed, resorted to huge government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: Republican party rev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The New Deal and American Lif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eal’s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not 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system not fundamentally alt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done for those without political cl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, the Wagner 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realignment of the 193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Great Crash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 laid of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for consumer goods decl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1920s economy failed to distribute wealth broadly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used for profits, dividends, and stock speculation should have been used for wage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vity increased 43%, wages only by 1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56"/>
          <p:cNvPicPr/>
          <p:nvPr/>
        </p:nvPicPr>
        <p:blipFill>
          <a:blip r:embed="rId1"/>
          <a:stretch/>
        </p:blipFill>
        <p:spPr>
          <a:xfrm>
            <a:off x="457200" y="66600"/>
            <a:ext cx="82296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Unemployment, 1929–1942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9" name="Picture 7" descr="DIVI7233562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Effects of the Depression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ship affected all cla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ddle class lost belief in ever-increasing prospe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oung homeless, jo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Fighting the Depression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attempts to overcome catastrophe floun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gave Democrats opportunity to regain pow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4:20:31Z</dcterms:created>
  <dc:creator>Timothy Hall</dc:creator>
  <dc:description/>
  <cp:keywords/>
  <dc:language>en-US</dc:language>
  <cp:lastModifiedBy>Matthew Myers</cp:lastModifiedBy>
  <cp:lastPrinted>2012-09-21T06:17:17Z</cp:lastPrinted>
  <dcterms:modified xsi:type="dcterms:W3CDTF">2011-03-01T13:22:49Z</dcterms:modified>
  <cp:revision>15</cp:revision>
  <dc:subject/>
  <dc:title>CHAPTER 26 FRANKLIN D. ROOSEVELT AND THE NEW DEAL</dc:title>
</cp:coreProperties>
</file>